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E3EE-033A-4124-BAD0-3D519B3E8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3862-7CF5-4B61-8013-0802E1638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7586-62A2-4183-8A37-92E833CEA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826F-2FA4-4239-B45C-76A60158F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E5C8-3155-44C4-81BF-9F1EAC2C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5EA5-D6DD-4A8D-9371-5F6D4EC5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CD4D-3F96-4E52-980F-8AF5A92D6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3D46-C3EC-42D0-8B2A-1F439C24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D428-C6DF-4B31-9BC6-D8B3DB26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07BD-ABED-4887-B268-9ECF2932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45CC-2D10-4272-B37B-CF8079C1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D166-9587-42B9-93F1-5FAF30CD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ED29-3958-4494-A9C2-33D839DB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19D1-C4B9-4192-9476-6E82457F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E182-C4AD-4B99-852C-4E67140B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A8DC-565F-4E20-9D6F-BC555155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042D-1E9A-4004-A878-999535469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5.jpeg"/><Relationship Id="rId14" Type="http://schemas.openxmlformats.org/officeDocument/2006/relationships/image" Target="../media/image6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4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ram Noam Chomsky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reparing for the William F. Buckley deb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ANC 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 ANC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3">
            <a:hlinkClick r:id="rId1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9"/>
          <p:cNvSpPr/>
          <p:nvPr/>
        </p:nvSpPr>
        <p:spPr>
          <a:xfrm>
            <a:off x="2133720" y="1600200"/>
            <a:ext cx="4952880" cy="27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4"/>
          <p:cNvSpPr/>
          <p:nvPr/>
        </p:nvSpPr>
        <p:spPr>
          <a:xfrm>
            <a:off x="152280" y="3657600"/>
            <a:ext cx="160020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ssachusetts Institut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c 7, 19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v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heist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iladelphia , P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6"/>
          <p:cNvSpPr/>
          <p:nvPr/>
        </p:nvSpPr>
        <p:spPr>
          <a:xfrm>
            <a:off x="152280" y="49528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9"/>
          <p:cNvSpPr/>
          <p:nvPr/>
        </p:nvSpPr>
        <p:spPr>
          <a:xfrm>
            <a:off x="152280" y="586728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.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5"/>
          <p:cNvSpPr/>
          <p:nvPr/>
        </p:nvSpPr>
        <p:spPr>
          <a:xfrm>
            <a:off x="1066680" y="58672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lliam 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0"/>
          <p:cNvSpPr/>
          <p:nvPr/>
        </p:nvSpPr>
        <p:spPr>
          <a:xfrm>
            <a:off x="0" y="664200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urch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3"/>
          <p:cNvSpPr/>
          <p:nvPr/>
        </p:nvSpPr>
        <p:spPr>
          <a:xfrm>
            <a:off x="685800" y="664200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ld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vram Noam Chomsk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preparing for the William F. Buckley deba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9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4"/>
          <p:cNvSpPr/>
          <p:nvPr/>
        </p:nvSpPr>
        <p:spPr>
          <a:xfrm>
            <a:off x="685800" y="58672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lsi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William F. Buckley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ood job on  the debate it was very challenging .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96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vram Noam Chomsky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at Nim Chimsky is upsurd</a:t>
            </a:r>
            <a:r>
              <a:rPr b="0" lang="en-US" sz="8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November 19, 19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vram Noam Chomsk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uman language appears to be a unique phenomenon, without significant analogue in the animal worl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9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vram Noam Chomsk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pes everyone realizes how serious I am about activism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19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vram Noam Chomsky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y wife died of cancer: :’(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61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85" name="Rectangle 11"/>
            <p:cNvSpPr/>
            <p:nvPr/>
          </p:nvSpPr>
          <p:spPr>
            <a:xfrm>
              <a:off x="0" y="0"/>
              <a:ext cx="64008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58" descr="fb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5105520" cy="3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Rectangle 5"/>
            <p:cNvSpPr/>
            <p:nvPr/>
          </p:nvSpPr>
          <p:spPr>
            <a:xfrm>
              <a:off x="5943600" y="0"/>
              <a:ext cx="32004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Home    Profile      Accou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Picture 2" descr="http://www.nndb.com/people/590/000022524/chomsky-close.jpg"/>
          <p:cNvPicPr/>
          <p:nvPr/>
        </p:nvPicPr>
        <p:blipFill>
          <a:blip r:embed="rId3"/>
          <a:stretch/>
        </p:blipFill>
        <p:spPr>
          <a:xfrm>
            <a:off x="228600" y="533520"/>
            <a:ext cx="1413000" cy="1828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http://www.nndb.com/people/590/000022524/chomsky-close.jpg"/>
          <p:cNvPicPr/>
          <p:nvPr/>
        </p:nvPicPr>
        <p:blipFill>
          <a:blip r:embed="rId4"/>
          <a:stretch/>
        </p:blipFill>
        <p:spPr>
          <a:xfrm>
            <a:off x="2133720" y="24382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http://www.nndb.com/people/590/000022524/chomsky-close.jpg"/>
          <p:cNvPicPr/>
          <p:nvPr/>
        </p:nvPicPr>
        <p:blipFill>
          <a:blip r:embed="rId5"/>
          <a:stretch/>
        </p:blipFill>
        <p:spPr>
          <a:xfrm>
            <a:off x="2133720" y="38098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http://www.nndb.com/people/590/000022524/chomsky-close.jpg"/>
          <p:cNvPicPr/>
          <p:nvPr/>
        </p:nvPicPr>
        <p:blipFill>
          <a:blip r:embed="rId6"/>
          <a:stretch/>
        </p:blipFill>
        <p:spPr>
          <a:xfrm>
            <a:off x="2133720" y="44956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http://www.nndb.com/people/590/000022524/chomsky-close.jpg"/>
          <p:cNvPicPr/>
          <p:nvPr/>
        </p:nvPicPr>
        <p:blipFill>
          <a:blip r:embed="rId7"/>
          <a:stretch/>
        </p:blipFill>
        <p:spPr>
          <a:xfrm>
            <a:off x="2133720" y="510552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http://www.nndb.com/people/590/000022524/chomsky-close.jpg"/>
          <p:cNvPicPr/>
          <p:nvPr/>
        </p:nvPicPr>
        <p:blipFill>
          <a:blip r:embed="rId8"/>
          <a:stretch/>
        </p:blipFill>
        <p:spPr>
          <a:xfrm>
            <a:off x="2133720" y="571500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7" descr="http://2.bp.blogspot.com/_KXBZvbU0LoI/TJAY0-8gWiI/AAAAAAAABcQ/7kKqGrQkQRk/s400/Buckley.jpg"/>
          <p:cNvPicPr/>
          <p:nvPr/>
        </p:nvPicPr>
        <p:blipFill>
          <a:blip r:embed="rId9"/>
          <a:stretch/>
        </p:blipFill>
        <p:spPr>
          <a:xfrm>
            <a:off x="2133720" y="304812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9" descr="http://2.bp.blogspot.com/_KXBZvbU0LoI/TJAY0-8gWiI/AAAAAAAABcQ/7kKqGrQkQRk/s400/Buckley.jpg"/>
          <p:cNvPicPr/>
          <p:nvPr/>
        </p:nvPicPr>
        <p:blipFill>
          <a:blip r:embed="rId10"/>
          <a:stretch/>
        </p:blipFill>
        <p:spPr>
          <a:xfrm>
            <a:off x="152280" y="533412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1" descr="http://images3.wikia.nocookie.net/__cb20060929130831/psychology/images/thumb/f/f5/Chomsky_young_with_parents_(fair-use).jpg/160px-Chomsky_young_with_parents_(fair-use).jpg"/>
          <p:cNvPicPr/>
          <p:nvPr/>
        </p:nvPicPr>
        <p:blipFill>
          <a:blip r:embed="rId11"/>
          <a:stretch/>
        </p:blipFill>
        <p:spPr>
          <a:xfrm>
            <a:off x="685800" y="533412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1" descr="http://images3.wikia.nocookie.net/__cb20060929130831/psychology/images/thumb/f/f5/Chomsky_young_with_parents_(fair-use).jpg/160px-Chomsky_young_with_parents_(fair-use).jpg"/>
          <p:cNvPicPr/>
          <p:nvPr/>
        </p:nvPicPr>
        <p:blipFill>
          <a:blip r:embed="rId12"/>
          <a:stretch/>
        </p:blipFill>
        <p:spPr>
          <a:xfrm>
            <a:off x="1219320" y="533412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3" descr="http://wpcontent.answers.com/wikipedia/en/thumb/8/87/Charles_W_Churchman.jpg/210px-Charles_W_Churchman.jpg"/>
          <p:cNvPicPr/>
          <p:nvPr/>
        </p:nvPicPr>
        <p:blipFill>
          <a:blip r:embed="rId13"/>
          <a:stretch/>
        </p:blipFill>
        <p:spPr>
          <a:xfrm>
            <a:off x="152280" y="6095880"/>
            <a:ext cx="381240" cy="533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5" descr="http://www.nndb.com/people/679/000117328/nelson-goodman-1-sized.jpg"/>
          <p:cNvPicPr/>
          <p:nvPr/>
        </p:nvPicPr>
        <p:blipFill>
          <a:blip r:embed="rId14"/>
          <a:stretch/>
        </p:blipFill>
        <p:spPr>
          <a:xfrm>
            <a:off x="762120" y="6095880"/>
            <a:ext cx="45720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ram Noam Chomsky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reparing for the William F. Buckley deb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ANC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 ANC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1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0"/>
          <p:cNvSpPr/>
          <p:nvPr/>
        </p:nvSpPr>
        <p:spPr>
          <a:xfrm>
            <a:off x="152280" y="3581280"/>
            <a:ext cx="16002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ssachusetts Institute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c 7, 19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vis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he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iladelphia, Pennsylvan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1"/>
          <p:cNvSpPr/>
          <p:nvPr/>
        </p:nvSpPr>
        <p:spPr>
          <a:xfrm>
            <a:off x="152280" y="50292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2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4"/>
          <p:cNvSpPr/>
          <p:nvPr/>
        </p:nvSpPr>
        <p:spPr>
          <a:xfrm>
            <a:off x="2133720" y="1905120"/>
            <a:ext cx="34290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ssachusetts Institute of Technolog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Dec 7, 19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Philadelphia,  Pennsylvani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Widow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ctivi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Atheis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5"/>
          <p:cNvSpPr/>
          <p:nvPr/>
        </p:nvSpPr>
        <p:spPr>
          <a:xfrm>
            <a:off x="1828800" y="3200400"/>
            <a:ext cx="6095880" cy="11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        Debate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Sailing, Football, Summers in Hyannis, Space Expl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/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N/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Radi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Current Issues in Linguistic Theory,  Aspects of the Theory of Synta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7"/>
          <p:cNvSpPr/>
          <p:nvPr/>
        </p:nvSpPr>
        <p:spPr>
          <a:xfrm>
            <a:off x="838080" y="563868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8"/>
          <p:cNvSpPr/>
          <p:nvPr/>
        </p:nvSpPr>
        <p:spPr>
          <a:xfrm>
            <a:off x="152280" y="525780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0"/>
          <p:cNvSpPr/>
          <p:nvPr/>
        </p:nvSpPr>
        <p:spPr>
          <a:xfrm>
            <a:off x="838080" y="632448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Young Agai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3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iladelphia, Pennsylvan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/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44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140" name="Rectangle 11"/>
            <p:cNvSpPr/>
            <p:nvPr/>
          </p:nvSpPr>
          <p:spPr>
            <a:xfrm>
              <a:off x="0" y="0"/>
              <a:ext cx="64008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6" descr="fb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105520" cy="3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Rectangle 5"/>
            <p:cNvSpPr/>
            <p:nvPr/>
          </p:nvSpPr>
          <p:spPr>
            <a:xfrm>
              <a:off x="5943600" y="0"/>
              <a:ext cx="32004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Home    Profile      Accou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Picture 2" descr="http://www.nndb.com/people/590/000022524/chomsky-close.jpg"/>
          <p:cNvPicPr/>
          <p:nvPr/>
        </p:nvPicPr>
        <p:blipFill>
          <a:blip r:embed="rId2"/>
          <a:stretch/>
        </p:blipFill>
        <p:spPr>
          <a:xfrm>
            <a:off x="228600" y="533520"/>
            <a:ext cx="1413000" cy="1828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1" descr="http://images3.wikia.nocookie.net/__cb20060929130831/psychology/images/thumb/f/f5/Chomsky_young_with_parents_(fair-use).jpg/160px-Chomsky_young_with_parents_(fair-use).jpg"/>
          <p:cNvPicPr/>
          <p:nvPr/>
        </p:nvPicPr>
        <p:blipFill>
          <a:blip r:embed="rId3"/>
          <a:stretch/>
        </p:blipFill>
        <p:spPr>
          <a:xfrm>
            <a:off x="152280" y="5410080"/>
            <a:ext cx="762120" cy="685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1" descr="http://www.tao.ca/~jody/blog/wp-content/uploads/2007/04/noam.png"/>
          <p:cNvPicPr/>
          <p:nvPr/>
        </p:nvPicPr>
        <p:blipFill>
          <a:blip r:embed="rId4"/>
          <a:stretch/>
        </p:blipFill>
        <p:spPr>
          <a:xfrm>
            <a:off x="228600" y="6248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53352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Chomsky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1"/>
          <p:cNvSpPr/>
          <p:nvPr/>
        </p:nvSpPr>
        <p:spPr>
          <a:xfrm>
            <a:off x="685800" y="4724280"/>
            <a:ext cx="190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omsky’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3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Young ag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Famil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ram Noam Chomsky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reparing for the William F. Buckley deb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36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170" name="Rectangle 11"/>
            <p:cNvSpPr/>
            <p:nvPr/>
          </p:nvSpPr>
          <p:spPr>
            <a:xfrm>
              <a:off x="0" y="0"/>
              <a:ext cx="64008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38" descr="fb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105520" cy="3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Rectangle 5"/>
            <p:cNvSpPr/>
            <p:nvPr/>
          </p:nvSpPr>
          <p:spPr>
            <a:xfrm>
              <a:off x="5943600" y="0"/>
              <a:ext cx="32004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Home    Profile      Accou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3" name="Picture 41" descr="http://www.tao.ca/~jody/blog/wp-content/uploads/2007/04/noam.png"/>
          <p:cNvPicPr/>
          <p:nvPr/>
        </p:nvPicPr>
        <p:blipFill>
          <a:blip r:embed="rId2"/>
          <a:stretch/>
        </p:blipFill>
        <p:spPr>
          <a:xfrm>
            <a:off x="762120" y="5029200"/>
            <a:ext cx="1066680" cy="1095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5" descr="http://im.rediff.com/news/2009/feb/18nlook.jpg"/>
          <p:cNvPicPr/>
          <p:nvPr/>
        </p:nvPicPr>
        <p:blipFill>
          <a:blip r:embed="rId3"/>
          <a:stretch/>
        </p:blipFill>
        <p:spPr>
          <a:xfrm>
            <a:off x="762120" y="32004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7" descr="http://teenymanolo.com/wordpress/wp-content/uploads/2008/03/debate-noam-chomsky.jpg"/>
          <p:cNvPicPr/>
          <p:nvPr/>
        </p:nvPicPr>
        <p:blipFill>
          <a:blip r:embed="rId4"/>
          <a:stretch/>
        </p:blipFill>
        <p:spPr>
          <a:xfrm>
            <a:off x="838080" y="1905120"/>
            <a:ext cx="1295640" cy="10666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9" descr="http://t1.gstatic.com/images?q=tbn:bVNFwc2GpRlBDM:http://filmtalks.net/media/thumbs/676452061991429040.jpg&amp;t=1"/>
          <p:cNvPicPr/>
          <p:nvPr/>
        </p:nvPicPr>
        <p:blipFill>
          <a:blip r:embed="rId5"/>
          <a:stretch/>
        </p:blipFill>
        <p:spPr>
          <a:xfrm>
            <a:off x="2286000" y="1905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1" descr="http://danielsimpson.files.wordpress.com/2010/05/noam-chomsky.jpg"/>
          <p:cNvPicPr/>
          <p:nvPr/>
        </p:nvPicPr>
        <p:blipFill>
          <a:blip r:embed="rId6"/>
          <a:stretch/>
        </p:blipFill>
        <p:spPr>
          <a:xfrm>
            <a:off x="2209680" y="3200400"/>
            <a:ext cx="1219320" cy="12574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3" descr="http://schools-wikipedia.org/images/916/91673.jpg"/>
          <p:cNvPicPr/>
          <p:nvPr/>
        </p:nvPicPr>
        <p:blipFill>
          <a:blip r:embed="rId7"/>
          <a:stretch/>
        </p:blipFill>
        <p:spPr>
          <a:xfrm>
            <a:off x="3505320" y="32004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5" descr="http://www.chomsky.info/chomsky.jpg"/>
          <p:cNvPicPr/>
          <p:nvPr/>
        </p:nvPicPr>
        <p:blipFill>
          <a:blip r:embed="rId8"/>
          <a:stretch/>
        </p:blipFill>
        <p:spPr>
          <a:xfrm>
            <a:off x="3505320" y="1905120"/>
            <a:ext cx="1371600" cy="1295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9" descr="http://1.bp.blogspot.com/_LnLtk3_0E1Q/SWDp9gBAm9I/AAAAAAAAG1w/qmu1dWjwoF4/s400/NoamChomsky.jpg"/>
          <p:cNvPicPr/>
          <p:nvPr/>
        </p:nvPicPr>
        <p:blipFill>
          <a:blip r:embed="rId9"/>
          <a:stretch/>
        </p:blipFill>
        <p:spPr>
          <a:xfrm>
            <a:off x="4952880" y="19051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1" descr="http://images3.wikia.nocookie.net/__cb20060929130831/psychology/images/thumb/f/f5/Chomsky_young_with_parents_(fair-use).jpg/160px-Chomsky_young_with_parents_(fair-use).jpg"/>
          <p:cNvPicPr/>
          <p:nvPr/>
        </p:nvPicPr>
        <p:blipFill>
          <a:blip r:embed="rId10"/>
          <a:stretch/>
        </p:blipFill>
        <p:spPr>
          <a:xfrm>
            <a:off x="1981080" y="5029200"/>
            <a:ext cx="1295640" cy="1066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http://www.nndb.com/people/590/000022524/chomsky-close.jpg"/>
          <p:cNvPicPr/>
          <p:nvPr/>
        </p:nvPicPr>
        <p:blipFill>
          <a:blip r:embed="rId11"/>
          <a:stretch/>
        </p:blipFill>
        <p:spPr>
          <a:xfrm>
            <a:off x="3581280" y="5029200"/>
            <a:ext cx="955800" cy="1143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http://www.nndb.com/people/590/000022524/chomsky-close.jpg"/>
          <p:cNvPicPr/>
          <p:nvPr/>
        </p:nvPicPr>
        <p:blipFill>
          <a:blip r:embed="rId12"/>
          <a:stretch/>
        </p:blipFill>
        <p:spPr>
          <a:xfrm>
            <a:off x="152280" y="533520"/>
            <a:ext cx="60984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teenuser</cp:lastModifiedBy>
  <dcterms:modified xsi:type="dcterms:W3CDTF">2011-01-03T22:06:15Z</dcterms:modified>
  <cp:revision>43</cp:revision>
  <dc:subject/>
  <dc:title>Profile</dc:title>
</cp:coreProperties>
</file>